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9E6E-F7AF-48C4-8849-1B740D73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2D8C-B250-4E84-A5CD-54134CE0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8DE-93AA-4170-89F5-2EB70998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0115-6A4D-481F-9B40-9B11F6B5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AC26-1CF9-47A6-ABF2-6926060A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F592-91CB-4D12-9478-9B330F70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3854-806B-45C1-BFEA-2F38BA7F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5C1A-D4E6-4A23-851F-C5ABD948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3D59-AECD-4B8F-9E76-7FE7908C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617A-96D2-4E73-ABC7-C6F9F208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C74-9911-4BE4-9326-CD5689D1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E45A-D755-4259-B3D1-46173D27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C70D-ABA5-4110-88A8-915C059A0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OGO MEDICINA.png"/>
          <p:cNvPicPr/>
          <p:nvPr/>
        </p:nvPicPr>
        <p:blipFill>
          <a:blip r:embed="rId1"/>
          <a:stretch/>
        </p:blipFill>
        <p:spPr>
          <a:xfrm>
            <a:off x="142920" y="0"/>
            <a:ext cx="8688240" cy="23572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324000" y="2780640"/>
            <a:ext cx="850104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2016/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а хемија 2 (Б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наеста неде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р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ја Д. Жи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олекули који садрже </a:t>
            </a:r>
            <a:r>
              <a:rPr b="0" lang="sr-M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анов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стен - бактерицид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900000" y="1797120"/>
          <a:ext cx="5904000" cy="50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97120"/>
                    <a:ext cx="590400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Box 4"/>
          <p:cNvSpPr/>
          <p:nvPr/>
        </p:nvSpPr>
        <p:spPr>
          <a:xfrm>
            <a:off x="1479240" y="299736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азоли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622520" y="494172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анто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447240" y="6396120"/>
            <a:ext cx="13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ац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4067280" y="4292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H-пир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5435640" y="659772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6738840" y="429264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H-пир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1054080" y="4797360"/>
            <a:ext cx="1701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900000" y="5589720"/>
            <a:ext cx="74170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al-Knorr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ва метода (из 1,4-дикарбонилних једињењ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684360" y="1773360"/>
          <a:ext cx="7318080" cy="23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7318080" cy="23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Object 2"/>
          <p:cNvGraphicFramePr/>
          <p:nvPr/>
        </p:nvGraphicFramePr>
        <p:xfrm>
          <a:off x="539640" y="404640"/>
          <a:ext cx="8163000" cy="28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04640"/>
                    <a:ext cx="816300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3"/>
          <p:cNvGraphicFramePr/>
          <p:nvPr/>
        </p:nvGraphicFramePr>
        <p:xfrm>
          <a:off x="826920" y="3645000"/>
          <a:ext cx="7878960" cy="274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3645000"/>
                    <a:ext cx="7878960" cy="27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Box 5"/>
          <p:cNvSpPr/>
          <p:nvPr/>
        </p:nvSpPr>
        <p:spPr>
          <a:xfrm flipH="1">
            <a:off x="971640" y="2997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алкилпир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Object 2"/>
          <p:cNvGraphicFramePr/>
          <p:nvPr/>
        </p:nvGraphicFramePr>
        <p:xfrm>
          <a:off x="611280" y="1359000"/>
          <a:ext cx="7921440" cy="52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59000"/>
                    <a:ext cx="7921440" cy="52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Box 5"/>
          <p:cNvSpPr/>
          <p:nvPr/>
        </p:nvSpPr>
        <p:spPr>
          <a:xfrm>
            <a:off x="5508720" y="4365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л-анј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4716360" y="1989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a= 17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АС код пирол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иловање, сулфоновање, јодо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Object 2"/>
          <p:cNvGraphicFramePr/>
          <p:nvPr/>
        </p:nvGraphicFramePr>
        <p:xfrm>
          <a:off x="468360" y="2205000"/>
          <a:ext cx="8140680" cy="33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205000"/>
                    <a:ext cx="814068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Box 4"/>
          <p:cNvSpPr/>
          <p:nvPr/>
        </p:nvSpPr>
        <p:spPr>
          <a:xfrm>
            <a:off x="299520" y="3500280"/>
            <a:ext cx="88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нитропирол                                                                               2-пиролсулфонска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323640" y="5589720"/>
            <a:ext cx="85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ацетилпирол                                                                                  тетрајодпирол (јодо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ол веома тешко подлеж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ls-Alder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вој реакцији, што није случај са његовим дериватима који за атом азота имају везану неку електрон-привлачну група: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Object 2"/>
          <p:cNvGraphicFramePr/>
          <p:nvPr/>
        </p:nvGraphicFramePr>
        <p:xfrm>
          <a:off x="488880" y="2354400"/>
          <a:ext cx="8429760" cy="26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2354400"/>
                    <a:ext cx="842976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5"/>
          <p:cNvSpPr/>
          <p:nvPr/>
        </p:nvSpPr>
        <p:spPr>
          <a:xfrm>
            <a:off x="252360" y="5229360"/>
            <a:ext cx="27943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етоксипир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ја пиро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Object 2"/>
          <p:cNvGraphicFramePr/>
          <p:nvPr/>
        </p:nvGraphicFramePr>
        <p:xfrm>
          <a:off x="900000" y="1844640"/>
          <a:ext cx="72723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844640"/>
                    <a:ext cx="72723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Box 4"/>
          <p:cNvSpPr/>
          <p:nvPr/>
        </p:nvSpPr>
        <p:spPr>
          <a:xfrm>
            <a:off x="560160" y="3645000"/>
            <a:ext cx="287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 –дихидропир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иролин, pKa~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6858000" y="36450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лиди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a = 11,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69960" y="595008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иролин, pKa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4952880" y="5877000"/>
            <a:ext cx="29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иролин, pKa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олекули који садрже пиролов прсте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фирин, хем, хлорофил, витамин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1619280" y="2276640"/>
          <a:ext cx="6423120" cy="41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6423120" cy="41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Box 4"/>
          <p:cNvSpPr/>
          <p:nvPr/>
        </p:nvSpPr>
        <p:spPr>
          <a:xfrm>
            <a:off x="4210920" y="6273720"/>
            <a:ext cx="82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пиро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2" name="Object 2"/>
          <p:cNvGraphicFramePr/>
          <p:nvPr/>
        </p:nvGraphicFramePr>
        <p:xfrm>
          <a:off x="611280" y="1989000"/>
          <a:ext cx="8178840" cy="20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89000"/>
                    <a:ext cx="817884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Box 4"/>
          <p:cNvSpPr/>
          <p:nvPr/>
        </p:nvSpPr>
        <p:spPr>
          <a:xfrm>
            <a:off x="0" y="414972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ол                          изоиндол                             индолиз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пирол             бензо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пирол                     бензо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пир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ја бензо[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пирола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Object 2"/>
          <p:cNvGraphicFramePr/>
          <p:nvPr/>
        </p:nvGraphicFramePr>
        <p:xfrm>
          <a:off x="1222200" y="2217600"/>
          <a:ext cx="7094880" cy="42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2200" y="2217600"/>
                    <a:ext cx="709488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Box 4"/>
          <p:cNvSpPr/>
          <p:nvPr/>
        </p:nvSpPr>
        <p:spPr>
          <a:xfrm>
            <a:off x="6306480" y="378936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о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560" y="3645000"/>
            <a:ext cx="889308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а: Видети раније Paal-Knorr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ва мет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 галактошећерне киселин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Object 2"/>
          <p:cNvGraphicFramePr/>
          <p:nvPr/>
        </p:nvGraphicFramePr>
        <p:xfrm>
          <a:off x="611280" y="1341360"/>
          <a:ext cx="7605720" cy="14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41360"/>
                    <a:ext cx="760572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TextBox 4"/>
          <p:cNvSpPr/>
          <p:nvPr/>
        </p:nvSpPr>
        <p:spPr>
          <a:xfrm>
            <a:off x="461520" y="3141720"/>
            <a:ext cx="70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фурил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фурил      2-фурфурил           2-фуро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Object 5"/>
          <p:cNvGraphicFramePr/>
          <p:nvPr/>
        </p:nvGraphicFramePr>
        <p:xfrm>
          <a:off x="611280" y="5229360"/>
          <a:ext cx="781200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5229360"/>
                    <a:ext cx="7812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олекули који садрже </a:t>
            </a:r>
            <a:r>
              <a:rPr b="0" lang="sr-M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пиролов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сте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5"/>
          <p:cNvSpPr/>
          <p:nvPr/>
        </p:nvSpPr>
        <p:spPr>
          <a:xfrm flipH="1">
            <a:off x="1403280" y="35733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пта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 flipH="1">
            <a:off x="6875640" y="342900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ото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971640" y="1432080"/>
          <a:ext cx="7056360" cy="54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32080"/>
                    <a:ext cx="7056360" cy="54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Box 8"/>
          <p:cNvSpPr/>
          <p:nvPr/>
        </p:nvSpPr>
        <p:spPr>
          <a:xfrm>
            <a:off x="6264360" y="508464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,N-диетиламид лизергне киселине (LS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илан у киселој средини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као и на дејство ваздушног кисеоника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Object 2"/>
          <p:cNvGraphicFramePr/>
          <p:nvPr/>
        </p:nvGraphicFramePr>
        <p:xfrm>
          <a:off x="395280" y="1628640"/>
          <a:ext cx="570708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28640"/>
                    <a:ext cx="57070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3"/>
          <p:cNvGraphicFramePr/>
          <p:nvPr/>
        </p:nvGraphicFramePr>
        <p:xfrm>
          <a:off x="611280" y="3933720"/>
          <a:ext cx="7532640" cy="15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3933720"/>
                    <a:ext cx="753264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АС код фуран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мовање, ациловање, сулфоно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79280" y="2133720"/>
          <a:ext cx="869184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133720"/>
                    <a:ext cx="869184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Box 4"/>
          <p:cNvSpPr/>
          <p:nvPr/>
        </p:nvSpPr>
        <p:spPr>
          <a:xfrm>
            <a:off x="8280" y="4941720"/>
            <a:ext cx="33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ацетилфуран    2-ацетилфу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1261800" y="30686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бромфу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66960" y="4076640"/>
            <a:ext cx="371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фурансулфонска     пирид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4218120" y="4221000"/>
          <a:ext cx="4925880" cy="223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8120" y="4221000"/>
                    <a:ext cx="4925880" cy="22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Box 7"/>
          <p:cNvSpPr/>
          <p:nvPr/>
        </p:nvSpPr>
        <p:spPr>
          <a:xfrm>
            <a:off x="7452000" y="623736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фур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АС код фуран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о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Object 3"/>
          <p:cNvGraphicFramePr/>
          <p:nvPr/>
        </p:nvGraphicFramePr>
        <p:xfrm>
          <a:off x="539640" y="2276640"/>
          <a:ext cx="7944120" cy="35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276640"/>
                    <a:ext cx="7944120" cy="35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r>
              <a:rPr b="0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н подлеже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ls-Alder</a:t>
            </a:r>
            <a:r>
              <a:rPr b="0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вој реакцији 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ин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ив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684360" y="1052640"/>
          <a:ext cx="6264000" cy="13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52640"/>
                    <a:ext cx="626400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Box 5"/>
          <p:cNvSpPr/>
          <p:nvPr/>
        </p:nvSpPr>
        <p:spPr>
          <a:xfrm>
            <a:off x="4792680" y="602136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7671600" y="6021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з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539640" y="4076640"/>
          <a:ext cx="8631360" cy="201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076640"/>
                    <a:ext cx="863136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фура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филна супституција код бенз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ана иде углавном у положај 2 (разлика од одговарајући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иват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фена и пирол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Object 2"/>
          <p:cNvGraphicFramePr/>
          <p:nvPr/>
        </p:nvGraphicFramePr>
        <p:xfrm>
          <a:off x="324000" y="1413000"/>
          <a:ext cx="6840360" cy="15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13000"/>
                    <a:ext cx="684036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3"/>
          <p:cNvGraphicFramePr/>
          <p:nvPr/>
        </p:nvGraphicFramePr>
        <p:xfrm>
          <a:off x="7149960" y="1413000"/>
          <a:ext cx="1994040" cy="15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9960" y="1413000"/>
                    <a:ext cx="199404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Box 5"/>
          <p:cNvSpPr/>
          <p:nvPr/>
        </p:nvSpPr>
        <p:spPr>
          <a:xfrm>
            <a:off x="2343960" y="285264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фу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6520680" y="2924280"/>
            <a:ext cx="23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фу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4"/>
          <p:cNvGraphicFramePr/>
          <p:nvPr/>
        </p:nvGraphicFramePr>
        <p:xfrm>
          <a:off x="3059280" y="5084640"/>
          <a:ext cx="2909880" cy="161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5084640"/>
                    <a:ext cx="29098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Object 2"/>
          <p:cNvGraphicFramePr/>
          <p:nvPr/>
        </p:nvGraphicFramePr>
        <p:xfrm>
          <a:off x="1258920" y="1125360"/>
          <a:ext cx="301140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125360"/>
                    <a:ext cx="301140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Box 4"/>
          <p:cNvSpPr/>
          <p:nvPr/>
        </p:nvSpPr>
        <p:spPr>
          <a:xfrm>
            <a:off x="558360" y="3860640"/>
            <a:ext cx="46184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 електрон-донорска груп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5292720" y="1773360"/>
          <a:ext cx="3600360" cy="25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1773360"/>
                    <a:ext cx="3600360" cy="25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Rectangle 6"/>
          <p:cNvSpPr/>
          <p:nvPr/>
        </p:nvSpPr>
        <p:spPr>
          <a:xfrm>
            <a:off x="4172400" y="4724280"/>
            <a:ext cx="48121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 електрон-привлачна груп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276720" y="3333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фу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ивати фура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Object 2"/>
          <p:cNvGraphicFramePr/>
          <p:nvPr/>
        </p:nvGraphicFramePr>
        <p:xfrm>
          <a:off x="324000" y="2565360"/>
          <a:ext cx="857232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565360"/>
                    <a:ext cx="85723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4"/>
          <p:cNvSpPr/>
          <p:nvPr/>
        </p:nvSpPr>
        <p:spPr>
          <a:xfrm>
            <a:off x="10800" y="4076640"/>
            <a:ext cx="2446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хидрофу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 flipV="1" rot="10800000">
            <a:off x="1692360" y="2276640"/>
            <a:ext cx="15112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фу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478320" y="3933720"/>
            <a:ext cx="264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фурил-алкох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5034240" y="198900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хидрофурфурил-алкох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6T09:00:52Z</dcterms:created>
  <dc:creator>Milos Nikolic</dc:creator>
  <dc:description/>
  <dc:language>en-US</dc:language>
  <cp:lastModifiedBy>Corporate Edition</cp:lastModifiedBy>
  <dcterms:modified xsi:type="dcterms:W3CDTF">2017-09-04T11:41:22Z</dcterms:modified>
  <cp:revision>7</cp:revision>
  <dc:subject/>
  <dc:title>Slide 1</dc:title>
</cp:coreProperties>
</file>